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17.png" ContentType="image/png"/>
  <Override PartName="/ppt/media/image15.jpeg" ContentType="image/jpeg"/>
  <Override PartName="/ppt/media/image16.wmf" ContentType="image/x-wmf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C9652-AD81-4AE0-95A2-F82B7B390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2E33F-D619-41C2-9B55-B8988A5EA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83B9-D503-45FC-9F06-67F748928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CBCA-1438-4F45-97AD-A6626CA23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9E7E-09DA-4B02-921A-3E6FFA7DF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3BEC-2B30-419E-9D3B-466CA7999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46D0-0F92-491C-8374-3E3369283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E6AD-A562-4184-AF97-FFD73C46F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4BCF-E2D2-4548-8005-4A9BF125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257B-0378-4E57-BA4C-ECDFEB32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70FE-1ABD-4848-A3C2-61446FA2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FE5D-9668-4B09-AA76-9CEA39E71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7CE9-7C31-4878-A4EE-CAB1ACB57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95D8-D952-4E27-9997-8141C8136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2" descr=""/>
          <p:cNvPicPr/>
          <p:nvPr/>
        </p:nvPicPr>
        <p:blipFill>
          <a:blip r:embed="rId4"/>
          <a:stretch/>
        </p:blipFill>
        <p:spPr>
          <a:xfrm>
            <a:off x="1738440" y="590724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4508E-9279-493F-B218-62976FE64317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247320" y="1447560"/>
            <a:ext cx="771516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6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FRICA RISING- Enhancing partnership among Africa RISING, NAFAKA and TUBORESHE CHAKULA Programs for fast tracking delivery and scaling of agricultural technologies in Tanza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ill Sans"/>
              </a:rPr>
              <a:t>Maize Based Sys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0200" y="4302000"/>
            <a:ext cx="61642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Bright Jumbo, Swai Elirehema, Freddy Baijukya, Anthony Kimaro, Zubeda Mduruma, Silvanus Mruma, Haroon Sseguya, Job Kihara, Fred Kizito, Chacha Watanga, Yangole, Einothy Laizer, Flavia, Elvis and many others ……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1"/>
          <p:cNvSpPr/>
          <p:nvPr/>
        </p:nvSpPr>
        <p:spPr>
          <a:xfrm>
            <a:off x="2633040" y="2939760"/>
            <a:ext cx="631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PMingLiU"/>
              </a:rPr>
              <a:t>Table 1. Names of districts and Villages selected for mother and baby demonst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239760" y="1401840"/>
          <a:ext cx="8729640" cy="5218200"/>
        </p:xfrm>
        <a:graphic>
          <a:graphicData uri="http://schemas.openxmlformats.org/drawingml/2006/table">
            <a:tbl>
              <a:tblPr/>
              <a:tblGrid>
                <a:gridCol w="898560"/>
                <a:gridCol w="1003320"/>
                <a:gridCol w="841320"/>
                <a:gridCol w="1262160"/>
                <a:gridCol w="892080"/>
                <a:gridCol w="1023840"/>
                <a:gridCol w="1146240"/>
                <a:gridCol w="1063440"/>
                <a:gridCol w="598680"/>
              </a:tblGrid>
              <a:tr h="260640">
                <a:tc rowSpan="2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istri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aba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ilo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ngw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ite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vome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ilo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boz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26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ll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5209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bi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laya Kibao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durugu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bigi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wado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engu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ump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g`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hin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gi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homb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ti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yen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ll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te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g'omb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igu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gug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tow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an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a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d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gara 'A'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pere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sufi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g’uruh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gamb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5209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yaman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gu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ngaj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lole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ke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umb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gan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mbi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dalib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wan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z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vome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n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hin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kuy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buru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simb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law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nk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dudw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5209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villag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</a:tbl>
          </a:graphicData>
        </a:graphic>
      </p:graphicFrame>
      <p:sp>
        <p:nvSpPr>
          <p:cNvPr id="259" name="Rectangle 98"/>
          <p:cNvSpPr/>
          <p:nvPr/>
        </p:nvSpPr>
        <p:spPr>
          <a:xfrm>
            <a:off x="468360" y="328320"/>
            <a:ext cx="8305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Names of districts and Villages selected for mother and baby demonstrations in 201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"/>
          <p:cNvGraphicFramePr/>
          <p:nvPr/>
        </p:nvGraphicFramePr>
        <p:xfrm>
          <a:off x="392040" y="2666880"/>
          <a:ext cx="8501040" cy="3299040"/>
        </p:xfrm>
        <a:graphic>
          <a:graphicData uri="http://schemas.openxmlformats.org/drawingml/2006/table">
            <a:tbl>
              <a:tblPr/>
              <a:tblGrid>
                <a:gridCol w="1443240"/>
                <a:gridCol w="1346040"/>
                <a:gridCol w="895320"/>
                <a:gridCol w="1346400"/>
                <a:gridCol w="1004760"/>
                <a:gridCol w="1320840"/>
                <a:gridCol w="1144440"/>
              </a:tblGrid>
              <a:tr h="9003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istr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mother dem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arget mother dem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baby dem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arget baby dem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number dem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arget total dem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299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aba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00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ilo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98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ng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99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ite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99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vom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00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ilo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99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boz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00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a5d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a5d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a5d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a5d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a5d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a5d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a5d8"/>
                    </a:solidFill>
                  </a:tcPr>
                </a:tc>
              </a:tr>
            </a:tbl>
          </a:graphicData>
        </a:graphic>
      </p:graphicFrame>
      <p:sp>
        <p:nvSpPr>
          <p:cNvPr id="261" name="Rectangle 1"/>
          <p:cNvSpPr/>
          <p:nvPr/>
        </p:nvSpPr>
        <p:spPr>
          <a:xfrm>
            <a:off x="316080" y="1556280"/>
            <a:ext cx="854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ther and baby demonstrations in the seven districts in 2016 vs targeted number of demos plan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74600" y="2125800"/>
          <a:ext cx="8707320" cy="3539880"/>
        </p:xfrm>
        <a:graphic>
          <a:graphicData uri="http://schemas.openxmlformats.org/drawingml/2006/table">
            <a:tbl>
              <a:tblPr/>
              <a:tblGrid>
                <a:gridCol w="1011240"/>
                <a:gridCol w="827280"/>
                <a:gridCol w="277560"/>
                <a:gridCol w="865440"/>
                <a:gridCol w="826920"/>
                <a:gridCol w="795240"/>
                <a:gridCol w="292320"/>
                <a:gridCol w="784080"/>
                <a:gridCol w="754200"/>
                <a:gridCol w="766800"/>
                <a:gridCol w="836280"/>
                <a:gridCol w="669960"/>
              </a:tblGrid>
              <a:tr h="253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750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tri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mother dem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mother dem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baby dem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number dem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mother dem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baby dem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number dem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arn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r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254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ba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5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253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lo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6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gw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254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te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vome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253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lo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254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boz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8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503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inga Rur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255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5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8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</a:tbl>
          </a:graphicData>
        </a:graphic>
      </p:graphicFrame>
      <p:sp>
        <p:nvSpPr>
          <p:cNvPr id="263" name="Rectangle 1"/>
          <p:cNvSpPr/>
          <p:nvPr/>
        </p:nvSpPr>
        <p:spPr>
          <a:xfrm>
            <a:off x="316080" y="731520"/>
            <a:ext cx="854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ther and baby demonstrations across target districts in 2015, 2016 and 2017 and number of anticipated learners compared to 2017 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511200" y="1317240"/>
            <a:ext cx="777240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119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ield Day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423720" y="2122560"/>
          <a:ext cx="8393400" cy="4083120"/>
        </p:xfrm>
        <a:graphic>
          <a:graphicData uri="http://schemas.openxmlformats.org/drawingml/2006/table">
            <a:tbl>
              <a:tblPr/>
              <a:tblGrid>
                <a:gridCol w="1094040"/>
                <a:gridCol w="876240"/>
                <a:gridCol w="876240"/>
                <a:gridCol w="876240"/>
                <a:gridCol w="874800"/>
                <a:gridCol w="291960"/>
                <a:gridCol w="876600"/>
                <a:gridCol w="876240"/>
                <a:gridCol w="874440"/>
                <a:gridCol w="876600"/>
              </a:tblGrid>
              <a:tr h="325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4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4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tri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fem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m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fem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m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41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ba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4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gw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4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te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4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lo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4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lo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42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boz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41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vome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4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2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,0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5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544680" y="130608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Trai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7" name="Picture 2" descr="E:\africa RISING 2017\photo for march aprl may 2017\100PHOTO\SAM_7396.JPG"/>
          <p:cNvPicPr/>
          <p:nvPr/>
        </p:nvPicPr>
        <p:blipFill>
          <a:blip r:embed="rId1"/>
          <a:stretch/>
        </p:blipFill>
        <p:spPr>
          <a:xfrm>
            <a:off x="6216480" y="1549440"/>
            <a:ext cx="2806920" cy="2104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268" name=""/>
          <p:cNvGraphicFramePr/>
          <p:nvPr/>
        </p:nvGraphicFramePr>
        <p:xfrm>
          <a:off x="119160" y="2222640"/>
          <a:ext cx="5878440" cy="3396960"/>
        </p:xfrm>
        <a:graphic>
          <a:graphicData uri="http://schemas.openxmlformats.org/drawingml/2006/table">
            <a:tbl>
              <a:tblPr/>
              <a:tblGrid>
                <a:gridCol w="1076400"/>
                <a:gridCol w="609480"/>
                <a:gridCol w="687240"/>
                <a:gridCol w="824040"/>
                <a:gridCol w="206280"/>
                <a:gridCol w="825480"/>
                <a:gridCol w="824040"/>
                <a:gridCol w="825480"/>
              </a:tblGrid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04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tr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ine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ine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vom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boz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ba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lo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lo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g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te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5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5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pic>
        <p:nvPicPr>
          <p:cNvPr id="269" name="Picture 4" descr="E:\DCIM\100PHOTO\SAM_4170.JPG"/>
          <p:cNvPicPr/>
          <p:nvPr/>
        </p:nvPicPr>
        <p:blipFill>
          <a:blip r:embed="rId2"/>
          <a:stretch/>
        </p:blipFill>
        <p:spPr>
          <a:xfrm>
            <a:off x="6167520" y="4111560"/>
            <a:ext cx="285588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76280" y="941040"/>
            <a:ext cx="82296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Arial Black"/>
              </a:rPr>
              <a:t>Planning Meetings and Field Days</a:t>
            </a:r>
            <a:endParaRPr b="0" lang="en-US" sz="28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271" name="Content Placeholder 3" descr="SAM_0861"/>
          <p:cNvPicPr/>
          <p:nvPr/>
        </p:nvPicPr>
        <p:blipFill>
          <a:blip r:embed="rId1"/>
          <a:stretch/>
        </p:blipFill>
        <p:spPr>
          <a:xfrm>
            <a:off x="6033960" y="1817640"/>
            <a:ext cx="2867040" cy="2147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72" name="Picture 4" descr="E:\Field day picture\Riroda School\DSC02393.JPG"/>
          <p:cNvPicPr/>
          <p:nvPr/>
        </p:nvPicPr>
        <p:blipFill>
          <a:blip r:embed="rId2"/>
          <a:stretch/>
        </p:blipFill>
        <p:spPr>
          <a:xfrm>
            <a:off x="536400" y="1319040"/>
            <a:ext cx="3975120" cy="27910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5" descr="C:\Users\bjumbo\Desktop\Field days Kilosa\DSC_1510.JPG"/>
          <p:cNvPicPr/>
          <p:nvPr/>
        </p:nvPicPr>
        <p:blipFill>
          <a:blip r:embed="rId3"/>
          <a:stretch/>
        </p:blipFill>
        <p:spPr>
          <a:xfrm>
            <a:off x="6296040" y="4267080"/>
            <a:ext cx="2739960" cy="21243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Description: C:\Users\EYSWAI\Desktop\NGIPA harvesting 2015\100PHOTO\SAM_0921.JPG"/>
          <p:cNvPicPr/>
          <p:nvPr/>
        </p:nvPicPr>
        <p:blipFill>
          <a:blip r:embed="rId4"/>
          <a:stretch/>
        </p:blipFill>
        <p:spPr>
          <a:xfrm>
            <a:off x="409680" y="4371840"/>
            <a:ext cx="4101840" cy="239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11200" y="142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23232"/>
                </a:solidFill>
                <a:latin typeface="Calibri"/>
              </a:rPr>
              <a:t>Where did we do bes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2873160"/>
            <a:ext cx="8229600" cy="32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Black"/>
              </a:rPr>
              <a:t>Successful establishment of demonstration plots across all target distri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Black"/>
              </a:rPr>
              <a:t>Train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Black"/>
              </a:rPr>
              <a:t>Field day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44680" y="9475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Key Results - Babati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278" name="Content Placeholder 3" descr=""/>
          <p:cNvPicPr/>
          <p:nvPr/>
        </p:nvPicPr>
        <p:blipFill>
          <a:blip r:embed="rId1"/>
          <a:stretch/>
        </p:blipFill>
        <p:spPr>
          <a:xfrm>
            <a:off x="1436760" y="1600200"/>
            <a:ext cx="6696000" cy="386388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4"/>
          <p:cNvSpPr/>
          <p:nvPr/>
        </p:nvSpPr>
        <p:spPr>
          <a:xfrm>
            <a:off x="1371600" y="5522760"/>
            <a:ext cx="745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ze grain yield observed under different varieties and treatments in mother demonstrations for three communities (Hallu, Ayamango and Orngadida) within the low altitude low rainfall agro-ecozone in Babati distr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Key results- Kiteto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281" name="Content Placeholder 3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2268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4"/>
          <p:cNvSpPr/>
          <p:nvPr/>
        </p:nvSpPr>
        <p:spPr>
          <a:xfrm>
            <a:off x="1447920" y="6045120"/>
            <a:ext cx="707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n maize grain yields under baby plots at Kiteto Distr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Key Results-Kongwa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284" name="Content Placeholder 3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2268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4"/>
          <p:cNvSpPr/>
          <p:nvPr/>
        </p:nvSpPr>
        <p:spPr>
          <a:xfrm>
            <a:off x="1109520" y="602280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 maize grain yields under baby plots in Kongwa Distr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artn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 Placeholder 1"/>
          <p:cNvSpPr/>
          <p:nvPr/>
        </p:nvSpPr>
        <p:spPr>
          <a:xfrm>
            <a:off x="314280" y="2543040"/>
            <a:ext cx="8562960" cy="34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9960" indent="-285480">
              <a:lnSpc>
                <a:spcPct val="100000"/>
              </a:lnSpc>
              <a:spcBef>
                <a:spcPts val="451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CIMMYT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International Maize and Wheat Improvement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451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CIAT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International Centre for Tropical Agri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451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ICRAF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World Agroforestry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451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ARI-Hombolo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Agricultural Research Institute, Hombo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451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IITA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International Institute for Tropical Agri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451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NAFAKA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Tanzania Staples Value Chain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451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AMINATA Quality S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451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SARI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SELIAN agricultural Research 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451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Meru Agro S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451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Agricultural Extension. Ministry of Agri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451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Key results-Kilolo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287" name="Content Placeholder 3" descr=""/>
          <p:cNvPicPr/>
          <p:nvPr/>
        </p:nvPicPr>
        <p:blipFill>
          <a:blip r:embed="rId1"/>
          <a:stretch/>
        </p:blipFill>
        <p:spPr>
          <a:xfrm>
            <a:off x="457200" y="1163520"/>
            <a:ext cx="8229600" cy="453096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4"/>
          <p:cNvSpPr/>
          <p:nvPr/>
        </p:nvSpPr>
        <p:spPr>
          <a:xfrm>
            <a:off x="1557360" y="5495760"/>
            <a:ext cx="714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ze response to various types of fertilizer at agronomic recommended rate and blanket rate in Mother Demonstrations in Kilolo Distr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Key result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ilos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1" name="Chart 3" descr=""/>
          <p:cNvPicPr/>
          <p:nvPr/>
        </p:nvPicPr>
        <p:blipFill>
          <a:blip r:embed="rId1"/>
          <a:stretch/>
        </p:blipFill>
        <p:spPr>
          <a:xfrm>
            <a:off x="1785960" y="1305000"/>
            <a:ext cx="6553080" cy="399888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4"/>
          <p:cNvSpPr/>
          <p:nvPr/>
        </p:nvSpPr>
        <p:spPr>
          <a:xfrm>
            <a:off x="1938240" y="5580000"/>
            <a:ext cx="576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ields of improved maize variety in the mother demonstration sites in Kilosa, Tanz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85640" y="693360"/>
            <a:ext cx="822960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Calibri"/>
              </a:rPr>
              <a:t>Other outputs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95000" y="1247400"/>
            <a:ext cx="8458200" cy="53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rotocols for setting up demonstration plots for groundnuts, maize, beans, and soybean were developed and are in us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Field maps and field books avail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FAKA agronomists have been trained on implementation of demonstrations and the protocols to be used for setting up demonstration plot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Extension staff have been train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roduction guide- These have been developed but need to be finalized together with NAFAK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Recommending a stakeholder meeting that includes the Ministry of Agriculture to look at the draf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CT has been introduced in some project si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47840" y="118116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Calibri"/>
              </a:rPr>
              <a:t>Challenges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2257560"/>
            <a:ext cx="8229600" cy="38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re drought in Kongwa, Kiteto and baba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ect pests outbreak (Fall Armywor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erational challenges in sites where our partners such as NAFAKA are not pres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ever this is addressed by engaging exten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ft of crops in the field (Maiz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38120" y="703440"/>
            <a:ext cx="8229600" cy="6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Future Plan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ducting more Train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nish production gui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arvesting (collect dat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s project has potential impacts but we need continued support to mature the implemen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028600" y="893520"/>
            <a:ext cx="668628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Acknowledgemen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50004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AID for providing financial suppo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 our valued partners for their suppo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90680" y="571320"/>
            <a:ext cx="82296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23232"/>
                </a:solidFill>
                <a:latin typeface="Calibri"/>
              </a:rPr>
              <a:t>Summary description of Key Activities of Maize Based Systems Component</a:t>
            </a:r>
            <a:endParaRPr b="0" lang="en-US" sz="3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14000" y="1858680"/>
            <a:ext cx="4941720" cy="45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 algn="just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roducing improved crop varieties (maize, beans, groundnuts, soybean) to improve crop productivity in target si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just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sseminate best bet agronomic management options to enhance crop productivity in target si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just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roduce land, soil and water conservation technologies for sustainable use of land, soil and water in project sit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just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munity empower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Picture 3" descr="Maze photo.jpg"/>
          <p:cNvPicPr/>
          <p:nvPr/>
        </p:nvPicPr>
        <p:blipFill>
          <a:blip r:embed="rId1"/>
          <a:stretch/>
        </p:blipFill>
        <p:spPr>
          <a:xfrm>
            <a:off x="5562720" y="1569960"/>
            <a:ext cx="3483000" cy="20541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C:\Users\user\Desktop\URGEST090315\Kongwa Mand E_09032015\touse\groundnut\vihingo\Farmers marvel atgrowthdiffoptioins.JPG"/>
          <p:cNvPicPr/>
          <p:nvPr/>
        </p:nvPicPr>
        <p:blipFill>
          <a:blip r:embed="rId2"/>
          <a:stretch/>
        </p:blipFill>
        <p:spPr>
          <a:xfrm>
            <a:off x="5562720" y="3973680"/>
            <a:ext cx="348300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520" y="15998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Gill Sans"/>
              </a:rPr>
              <a:t>Core Activities</a:t>
            </a:r>
            <a:endParaRPr b="0" lang="en-US" sz="3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2" name="Title 1"/>
          <p:cNvSpPr/>
          <p:nvPr/>
        </p:nvSpPr>
        <p:spPr>
          <a:xfrm>
            <a:off x="409680" y="2448000"/>
            <a:ext cx="7619760" cy="39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Calibri"/>
                <a:ea typeface="Times New Roman"/>
              </a:rPr>
              <a:t>Introduce and promote improved varie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2323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Calibri"/>
                <a:ea typeface="Times New Roman"/>
              </a:rPr>
              <a:t>Maize, groundnuts, Soybean and b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Calibri"/>
                <a:ea typeface="Times New Roman"/>
              </a:rPr>
              <a:t>Demonstrate the performance of organic and inorganic fertilizer in maize and legum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Calibri"/>
                <a:ea typeface="Times New Roman"/>
              </a:rPr>
              <a:t>Demonstrate improved maize and legume varieties under good agronomic management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Calibri"/>
                <a:ea typeface="Times New Roman"/>
              </a:rPr>
              <a:t>Demonstrate appropriate in-situ soil and water conservation measures  i.e.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contour and </a:t>
            </a:r>
            <a:r>
              <a:rPr b="1" lang="en-US" sz="2400" spc="-1" strike="noStrike">
                <a:solidFill>
                  <a:srgbClr val="323232"/>
                </a:solidFill>
                <a:latin typeface="Calibri"/>
                <a:ea typeface="Times New Roman"/>
              </a:rPr>
              <a:t>tie rid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Calibri"/>
              </a:rPr>
              <a:t>Demonstrate appropriate water harvesting and irrigation op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0120" y="9316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3232"/>
                </a:solidFill>
                <a:latin typeface="Calibri"/>
              </a:rPr>
              <a:t>Table 1. Maize Varieties planted at various sites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352440" y="1609560"/>
          <a:ext cx="8582040" cy="4938840"/>
        </p:xfrm>
        <a:graphic>
          <a:graphicData uri="http://schemas.openxmlformats.org/drawingml/2006/table">
            <a:tbl>
              <a:tblPr/>
              <a:tblGrid>
                <a:gridCol w="600120"/>
                <a:gridCol w="1836720"/>
                <a:gridCol w="1947960"/>
                <a:gridCol w="1233360"/>
                <a:gridCol w="1658880"/>
                <a:gridCol w="1305000"/>
              </a:tblGrid>
              <a:tr h="1041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r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our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Year Releas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tur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Yield potent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t/h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34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N H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nSe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 - 130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8 t/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4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Calibri"/>
                        </a:rPr>
                        <a:t>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H6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A AG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 - 130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-13t/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45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AN2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anSe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4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Calibri"/>
                        </a:rPr>
                        <a:t>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H6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A AG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 - 130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-13t/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5904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TA H1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IN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mediate (110 t0 120 day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4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TA H1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IN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medi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560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TA K6Q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IN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arly (90 to 110 day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47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MS H9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M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-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5 -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6620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RUHB513** Low N, DT var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RU AG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-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10t/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38120" y="140760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3232"/>
                </a:solidFill>
                <a:latin typeface="Calibri"/>
              </a:rPr>
              <a:t>Table 2. Legumes planted at various sites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228600" y="2143080"/>
          <a:ext cx="4886280" cy="1920960"/>
        </p:xfrm>
        <a:graphic>
          <a:graphicData uri="http://schemas.openxmlformats.org/drawingml/2006/table">
            <a:tbl>
              <a:tblPr/>
              <a:tblGrid>
                <a:gridCol w="1752480"/>
                <a:gridCol w="1819440"/>
                <a:gridCol w="131436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roundnu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oybe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esk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e 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548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nanj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yole Nj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jano SU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  <p:pic>
        <p:nvPicPr>
          <p:cNvPr id="247" name="Picture 25" descr=""/>
          <p:cNvPicPr/>
          <p:nvPr/>
        </p:nvPicPr>
        <p:blipFill>
          <a:blip r:embed="rId1"/>
          <a:stretch/>
        </p:blipFill>
        <p:spPr>
          <a:xfrm>
            <a:off x="5153040" y="2190600"/>
            <a:ext cx="375300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434880" y="2308320"/>
          <a:ext cx="8502840" cy="4365360"/>
        </p:xfrm>
        <a:graphic>
          <a:graphicData uri="http://schemas.openxmlformats.org/drawingml/2006/table">
            <a:tbl>
              <a:tblPr/>
              <a:tblGrid>
                <a:gridCol w="1376280"/>
                <a:gridCol w="2327400"/>
                <a:gridCol w="2212920"/>
                <a:gridCol w="1584360"/>
                <a:gridCol w="1001880"/>
              </a:tblGrid>
              <a:tr h="12873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tr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Number of learners per distr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 II (Number of learners per distri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 III (Number of learners per distri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r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82404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 (5 Lead farmers/district  x 25 learn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75 (lead x 15 learner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 (1875 x 5 recruit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222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222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222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2076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222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222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222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,6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  <p:sp>
        <p:nvSpPr>
          <p:cNvPr id="249" name="Rectangle 1"/>
          <p:cNvSpPr/>
          <p:nvPr/>
        </p:nvSpPr>
        <p:spPr>
          <a:xfrm>
            <a:off x="566640" y="1670400"/>
            <a:ext cx="8326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ill Sans MT"/>
              </a:rPr>
              <a:t>Table 1. Scaling plan from year 1 to year III for each distri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47760" y="114300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How would this plan work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25240" y="2068560"/>
            <a:ext cx="4081320" cy="36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24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nducting demonstration of selected technologi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nducting field day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nducting training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Picture 4" descr="Description: C:\Users\IITA-11\Desktop\pic.jpg"/>
          <p:cNvPicPr/>
          <p:nvPr/>
        </p:nvPicPr>
        <p:blipFill>
          <a:blip r:embed="rId1"/>
          <a:stretch/>
        </p:blipFill>
        <p:spPr>
          <a:xfrm>
            <a:off x="5410080" y="4278240"/>
            <a:ext cx="3487680" cy="24703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Description: C:\Users\USER\Desktop\iporoto and Haroon visits\101MSDCF\DSC04744.JPG"/>
          <p:cNvPicPr/>
          <p:nvPr/>
        </p:nvPicPr>
        <p:blipFill>
          <a:blip r:embed="rId2"/>
          <a:stretch/>
        </p:blipFill>
        <p:spPr>
          <a:xfrm>
            <a:off x="5410080" y="1855800"/>
            <a:ext cx="3395880" cy="22096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C:\Users\pc\AppData\Local\Temp\Temp1_h.zip\IMG-20160721-WA0021.jpg"/>
          <p:cNvPicPr/>
          <p:nvPr/>
        </p:nvPicPr>
        <p:blipFill>
          <a:blip r:embed="rId3"/>
          <a:stretch/>
        </p:blipFill>
        <p:spPr>
          <a:xfrm>
            <a:off x="525600" y="4354560"/>
            <a:ext cx="449244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28760" y="77940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3232"/>
                </a:solidFill>
                <a:latin typeface="Calibri"/>
              </a:rPr>
              <a:t>Criteria for selecting villages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52440" y="1552320"/>
            <a:ext cx="822960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line with the feed the future expectations, target numbers to be achiev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op production area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they producing the crops we are trying to promo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scale is this crop being produced-in terms of importance is it a priority crop (value-food, cash, fe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 it a crop they are already producing (We do not want to introduce the crop as a new cro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sibility- close to the ro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op potential in terms of market access/ li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ed the future site where our partners (NAFAKA) already have net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8T16:50:55Z</dcterms:created>
  <dc:creator>ALUNA</dc:creator>
  <dc:description/>
  <dc:language>en-US</dc:language>
  <cp:lastModifiedBy>Jumbo, Bright (CIMMYT)</cp:lastModifiedBy>
  <dcterms:modified xsi:type="dcterms:W3CDTF">2017-07-03T06:42:39Z</dcterms:modified>
  <cp:revision>671</cp:revision>
  <dc:subject/>
  <dc:title>Slide 1</dc:title>
</cp:coreProperties>
</file>